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35.jpeg" ContentType="image/jpeg"/>
  <Override PartName="/ppt/media/image10.png" ContentType="image/png"/>
  <Override PartName="/ppt/media/image13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5CD7-7C38-47E7-909A-CEE99241E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6D9-A219-4FD3-8EF8-7048A3C54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E84-397F-4CA8-A3A7-31CC715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E65-13AA-4036-9086-BE8E896A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D4790-7DC5-4CB5-AF0C-D25C075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E0EC1-3E08-4C68-BF19-FF5C27F7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177E4-B55C-4CBA-A6A9-CADDB7E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4637C-C5A7-458C-B11A-597E2A69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FD568-3E0F-4D5F-BC02-216E51D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4BB48-8B62-414A-9015-B1846A3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EC71E-B2D7-4C62-ADD6-181753E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67379-1D5F-4554-9619-824562D4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E3F62-7952-49F8-8C38-ABFB2C09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D2B11-BAE3-4553-94E0-3626EAE0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7DD-ACAC-4AA7-9675-861E1F36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043F5-97B4-4ED3-A573-4796120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2B9F3-CDBC-46AD-81DC-41687C7B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13E47-78A4-44AD-948E-81EEEF8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20D98-61C0-4BE3-AB10-C87CE599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04DD6-7B31-4AC2-9A41-2F4FB0FC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5E54B-D8BB-42F1-A34B-1B3EB96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318BF-3A64-42D6-A9A9-1328ACCE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C3228-1985-491F-A0DB-1F4E4F6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A04EE-E24D-4828-9813-DB77011B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763C7-72F8-404E-B095-5384C08D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55F-48BC-45E7-96F8-F4204C6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6F5CF-FD7B-4870-AE22-2B19A258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FD2F2-181E-4B76-9249-DF94C0AD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5E4E-4F4A-4D7A-91A3-0A620029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ECB31-EC5A-45B3-A58F-4A92124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7875-07D9-4FC6-82C7-64BBF37F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7F55A-148D-4DD4-AA0D-4CCA86FF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222AD-98FA-4E32-8731-BB0D6768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71F49-4354-4F0F-83C9-73F53AC2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F854C-5EF2-4D08-A680-0859E4C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F155F-0C91-4695-BBB1-0044759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95F-1B55-4401-A1E3-D58E84CF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4D1E-45B3-4126-AC1E-7B92067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A598F-102E-455B-9951-C412A9D7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829EB-6EE5-4CAD-A68D-B4E6B523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AE644-D6B2-4217-A6B4-F9C602FB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9B2B1-11D9-4F91-9478-06ADA7D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B17EF-CEF7-4563-8F4F-5220970C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7BBE5-7158-41E5-AB62-22FB8A7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6812F-A4EC-4452-AF98-9CFE8D8B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2F74F-C2D3-47E3-B8EC-CFACD85F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97A64-A371-4765-8C45-E7DD392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E2BA-0340-47D1-9263-3DF2C1E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63AC3-0A69-47C8-B347-7921CDA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DCA3D-B10F-46CE-9838-17723D7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E9DF1-8D59-4AAA-9BF6-FD31499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93DEF-CBD4-4F35-AF6A-2079CDD9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83A51-7520-4D08-BC62-BCD823A0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90A8-B466-47BF-BB6C-41FFB35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C081-8B11-4F19-B0D9-3B00505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BFB-8E41-4522-85D4-9093579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9B9A-AE8A-49EE-8DCB-0329F511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8C99-74E4-4369-8E72-5473966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10-7B5C-4EA1-B4D2-507AEF6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64AC-0D3D-4E1C-A007-0C8C4E2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1D1A-D64E-491C-8E7C-C2A0886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EB04-EB89-421D-9802-C0F980B0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168-F904-424F-A203-378E7750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602B-F6DB-4DDF-9D6E-974D3196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A643-7CAE-453A-AAA0-EF95E888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3B83-F845-4ACC-A506-A20D837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E5E8-004A-4867-B207-C2889B4D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CA9E-F62F-4A49-9E36-E605436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D17C-A41D-4085-9A0B-03732A3C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372-E189-4A4C-BA44-DD9B1B62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CD5E-4441-4EE8-AA25-D8E2350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7DBB-53EB-433B-B658-F9399898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52C8-8C7C-44F0-9C3D-505F419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BA37-9B29-4438-BA41-B6C186F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B7EF-D316-405D-9588-1E5517A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2956-61F7-4DF4-830C-9FA530E4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177B-9BF6-4527-BB90-DB761E1E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A9141-F940-4135-9285-E647373C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12AE-65B4-49A6-B817-B8A9FE94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311A-F6B2-455B-A65C-48CEA124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10D-0E38-4DC6-99BE-69D19A6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DA8D-8C3A-42A7-BF27-18CB2AC9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2270-CAD0-4D8A-BB94-D1F93BED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BCCF3-BF53-466F-8CED-DC24DC2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CA15-DFEC-4D4B-8484-886BAD9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D7EC-4F69-4B78-B405-30C9D11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FF67-4620-452C-9FC1-D3B4377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FEF4-39C4-4D14-9DE3-769FD766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0EF5-67F2-48A5-ACF2-94393D8B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2360-F88E-4479-966B-05FFC8FA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BBBC-9E6D-404E-9976-141E736E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C42-6D35-4D5A-BECC-C0B471C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8595-581B-4E82-B046-02ADA568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17FA-91E9-44EB-A8C1-ECCAF6EF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3AD47-15A6-4A2F-8ABE-2D2EF095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F776-FE06-4869-9B37-3FE8D9D8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1E8BE-6C0B-425A-864E-CA6B3E9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5191-0393-4CC1-B587-73C3DA9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97199-2EF0-4933-ACA6-DCE3D54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3E14-DBA6-4BD1-A494-83B0920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6791-5AC0-4976-BF2C-C1548F29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32706-E785-448C-978E-FC10F2E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2BE-3B1B-4383-B828-9D8A1D3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5BDE-1FE4-4CAC-82DB-C05E5DF5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08E1D-4A2C-4C03-AE57-1CDC5558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760D-58B5-40D0-A0D2-71120AE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8760-A080-4884-A919-A9978F30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1CD6-D28D-4C1C-B363-6E0C7D29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702B-841F-4B37-8B26-47A3511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CBF9D-5CA5-44EE-8388-0380C53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A92D2-910A-4BCA-8676-CBD7926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979E-637C-48A7-B95D-05DF774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9B21-98EC-41EC-8B6C-1B5F3AD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F97-2B7D-4BBD-9B02-AD3B8335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6FA0-7B8B-4DFF-B4FB-FF8437F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3E4D-A852-40D0-82D7-6FFCFE74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906C-00B4-4A80-A0E4-BB928D5E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DFE7-33BA-405E-8E0B-96625667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96661-2294-46BB-8321-4664256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3EB3-94D0-4792-B524-D351808A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D598-9446-42BB-A84C-9CBFF2C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6ABE-C2C9-41C5-94AE-C405194E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1913-8473-41B9-A1E1-9F3D963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F294-7E7C-4FCE-BEF5-EAA1359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60F-A3DE-44F7-904B-98F965C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3FBA-0B30-4795-90B8-A07E7F5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12DB-856A-427C-AE83-89B6F31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2AB2E-DDFF-4C1E-A8A1-CB1BC73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5F91-43D0-499F-A860-8025AFA9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0324F-5DD9-425B-A8EE-000AF7B2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6D9F-D296-45AC-8A37-9650534E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486EE-BBE2-426B-8098-7B2F3D25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9CE22-0E4E-4356-95B3-DE45B6A2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32C1-1E3D-47B0-85E5-53BA3A8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AE31-2E99-4A89-AE51-3CF94F1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489-4318-4467-B5B1-5967482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A9F8-CF7B-4A35-95E2-BF38C50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B6DBA-496B-40F0-8A3D-8A7B4B7E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99790-E25D-4D4B-A381-28DA315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22E0-B534-4370-ADBD-413C7DC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D9FB6-2451-4B67-AD4D-DDF0A372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B4C2D-5B8E-485D-9059-732EEC49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DBB4E-B44F-44B0-B556-51C298B9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405C0-41EA-4380-8913-4ABC759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52D21-5FAC-4980-AB2A-A2504E0D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DABCE-0DD7-4774-9C11-33E9045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7F0-433C-4D4D-B2A3-51ABE2DDC9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BA3-FCF7-4C6C-B7C8-2192267E07B0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1EB-EEE9-41E7-965D-09894FDEAC67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340-6BF0-4A94-8656-A6363F5366A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D723-CB12-4EE7-B071-4927E28475B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5C9A-A342-4461-8EA4-DEA16EB84E02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483-ABC0-473F-87EA-5B427698DB3A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48A0-7398-4068-BD85-CD9BDBCA0C5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F90D-75E4-46A0-9956-E87E4293AAC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44D8-4E8E-49C8-99D9-DCCDF3583578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608B-4956-433A-9813-8E892C421F6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686-6052-471C-8362-49372A39C489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E75-8591-468F-A37A-18E87EAC14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4B2-1977-4004-A4BB-0DA5A9250B3D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CD44-3D3A-46F1-B709-6E8ACB09146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B0F-04DD-4921-A22B-A624F88947C2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E97C-2329-4EF1-829E-876790AAD81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36BA-5581-4FB5-A9FB-1F89FB2D9CFD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8C9F-98E6-4F98-B15E-9C999E5393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51DA-B4C6-4183-97E4-6D038873ECDD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8B1-B933-4218-8AB1-479110CC9C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4F2-6CA4-4734-AECA-F73038F5DA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b9c06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1AD-AB2F-4F79-845A-01E83EE5692F}" type="slidenum">
              <a:rPr b="0" lang="en-US" sz="1600" spc="-1" strike="noStrike">
                <a:solidFill>
                  <a:srgbClr val="b9c06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2C17-0D7E-4AFD-BF70-67694CF3EEF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240" y="2819520"/>
            <a:ext cx="6915240" cy="31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53"/>
                </a:solidFill>
                <a:latin typeface="Georgia"/>
              </a:rPr>
              <a:t>IMTNAN QAZ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53"/>
                </a:solidFill>
                <a:latin typeface="Georgia"/>
              </a:rPr>
              <a:t>ALINA OPR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53"/>
                </a:solidFill>
                <a:latin typeface="Georgia"/>
              </a:rPr>
              <a:t>KATERINE DIA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53"/>
                </a:solidFill>
                <a:latin typeface="Georgia"/>
              </a:rPr>
              <a:t>INAYATULLAH KHA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64653"/>
                </a:solidFill>
                <a:latin typeface="Georgia"/>
              </a:rPr>
              <a:t>16</a:t>
            </a:r>
            <a:r>
              <a:rPr b="0" i="1" lang="en-US" sz="1600" spc="-1" strike="noStrike" baseline="30000">
                <a:solidFill>
                  <a:srgbClr val="464653"/>
                </a:solidFill>
                <a:latin typeface="Georgia"/>
              </a:rPr>
              <a:t>TH</a:t>
            </a:r>
            <a:r>
              <a:rPr b="0" i="1" lang="en-US" sz="1600" spc="-1" strike="noStrike">
                <a:solidFill>
                  <a:srgbClr val="464653"/>
                </a:solidFill>
                <a:latin typeface="Georgia"/>
              </a:rPr>
              <a:t> SUMMER SCHOOL ON IMAGE PROCESS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64653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464653"/>
                </a:solidFill>
                <a:latin typeface="Georgia"/>
              </a:rPr>
              <a:t>JULY 7TH-16TH 2008, VIENNA, AUSTR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4653"/>
                </a:solidFill>
                <a:latin typeface="Georgia"/>
              </a:rPr>
              <a:t>JULY 15, 2008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ca3"/>
                </a:solidFill>
                <a:latin typeface="Georgia"/>
              </a:rPr>
              <a:t>Gender Classification based </a:t>
            </a:r>
            <a:br>
              <a:rPr sz="4200"/>
            </a:br>
            <a:r>
              <a:rPr b="0" lang="en-US" sz="4200" spc="-1" strike="noStrike">
                <a:solidFill>
                  <a:srgbClr val="727ca3"/>
                </a:solidFill>
                <a:latin typeface="Georgia"/>
              </a:rPr>
              <a:t>on Facial information </a:t>
            </a:r>
            <a:endParaRPr b="0" lang="en-US" sz="42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7792920" y="176040"/>
            <a:ext cx="1171800" cy="8766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2"/>
          <a:stretch/>
        </p:blipFill>
        <p:spPr>
          <a:xfrm>
            <a:off x="168120" y="168120"/>
            <a:ext cx="181296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ptimal separating hyper plan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nction that predicts bes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sponse from some training function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iven, observation-label pair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inimizes the criterion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Kernel function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upport  Vector Machin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1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2"/>
          <a:stretch/>
        </p:blipFill>
        <p:spPr>
          <a:xfrm>
            <a:off x="4714920" y="2602080"/>
            <a:ext cx="2286000" cy="326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"/>
          <p:cNvPicPr/>
          <p:nvPr/>
        </p:nvPicPr>
        <p:blipFill>
          <a:blip r:embed="rId3"/>
          <a:stretch/>
        </p:blipFill>
        <p:spPr>
          <a:xfrm>
            <a:off x="4714920" y="3448080"/>
            <a:ext cx="2033640" cy="57780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11"/>
          <p:cNvGrpSpPr/>
          <p:nvPr/>
        </p:nvGrpSpPr>
        <p:grpSpPr>
          <a:xfrm>
            <a:off x="3798720" y="4019400"/>
            <a:ext cx="4059360" cy="409680"/>
            <a:chOff x="3798720" y="4019400"/>
            <a:chExt cx="4059360" cy="409680"/>
          </a:xfrm>
        </p:grpSpPr>
        <p:pic>
          <p:nvPicPr>
            <p:cNvPr id="720" name="Picture 4" descr=""/>
            <p:cNvPicPr/>
            <p:nvPr/>
          </p:nvPicPr>
          <p:blipFill>
            <a:blip r:embed="rId4"/>
            <a:stretch/>
          </p:blipFill>
          <p:spPr>
            <a:xfrm>
              <a:off x="3798720" y="4019400"/>
              <a:ext cx="289008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5" descr=""/>
            <p:cNvPicPr/>
            <p:nvPr/>
          </p:nvPicPr>
          <p:blipFill>
            <a:blip r:embed="rId5"/>
            <a:stretch/>
          </p:blipFill>
          <p:spPr>
            <a:xfrm>
              <a:off x="7228080" y="4044960"/>
              <a:ext cx="630000" cy="28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2" name="Picture 6" descr=""/>
          <p:cNvPicPr/>
          <p:nvPr/>
        </p:nvPicPr>
        <p:blipFill>
          <a:blip r:embed="rId6"/>
          <a:stretch/>
        </p:blipFill>
        <p:spPr>
          <a:xfrm>
            <a:off x="4357800" y="5286240"/>
            <a:ext cx="2714400" cy="397080"/>
          </a:xfrm>
          <a:prstGeom prst="rect">
            <a:avLst/>
          </a:prstGeom>
          <a:ln w="0">
            <a:noFill/>
          </a:ln>
        </p:spPr>
      </p:pic>
      <p:sp>
        <p:nvSpPr>
          <p:cNvPr id="723" name="Date Placeholder 1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C66-937D-4455-8CF5-0C0990AC07C4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Slide Number Placeholder 1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716-61E0-4421-A25B-89DF585F1A3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Footer Placeholder 15"/>
          <p:cNvSpPr/>
          <p:nvPr/>
        </p:nvSpPr>
        <p:spPr>
          <a:xfrm>
            <a:off x="301680" y="6410160"/>
            <a:ext cx="569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28" name="Content Placeholder 14" descr="PCA.jpg"/>
          <p:cNvPicPr/>
          <p:nvPr/>
        </p:nvPicPr>
        <p:blipFill>
          <a:blip r:embed="rId1"/>
          <a:stretch/>
        </p:blipFill>
        <p:spPr>
          <a:xfrm>
            <a:off x="3124080" y="1649520"/>
            <a:ext cx="5639040" cy="3483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" descr=""/>
          <p:cNvPicPr/>
          <p:nvPr/>
        </p:nvPicPr>
        <p:blipFill>
          <a:blip r:embed="rId2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30" name="Oval 10"/>
          <p:cNvSpPr/>
          <p:nvPr/>
        </p:nvSpPr>
        <p:spPr>
          <a:xfrm>
            <a:off x="7000920" y="2286000"/>
            <a:ext cx="1214280" cy="78588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TextBox 11"/>
          <p:cNvSpPr/>
          <p:nvPr/>
        </p:nvSpPr>
        <p:spPr>
          <a:xfrm>
            <a:off x="521496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2d050"/>
                </a:solidFill>
                <a:latin typeface="Georgia"/>
              </a:rPr>
              <a:t>Stability of PC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Date Placeholder 8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702-623F-44A0-9008-793D7A9C5E9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Slide Number Placeholder 13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8A75-1215-4630-9129-2318D4760285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Footer Placeholder 16"/>
          <p:cNvSpPr/>
          <p:nvPr/>
        </p:nvSpPr>
        <p:spPr>
          <a:xfrm>
            <a:off x="301680" y="6410160"/>
            <a:ext cx="598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37" name="Content Placeholder 13" descr="FLD.jpg"/>
          <p:cNvPicPr/>
          <p:nvPr/>
        </p:nvPicPr>
        <p:blipFill>
          <a:blip r:embed="rId1"/>
          <a:stretch/>
        </p:blipFill>
        <p:spPr>
          <a:xfrm>
            <a:off x="3124080" y="1649520"/>
            <a:ext cx="5639040" cy="3483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" descr=""/>
          <p:cNvPicPr/>
          <p:nvPr/>
        </p:nvPicPr>
        <p:blipFill>
          <a:blip r:embed="rId2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39" name="TextBox 8"/>
          <p:cNvSpPr/>
          <p:nvPr/>
        </p:nvSpPr>
        <p:spPr>
          <a:xfrm>
            <a:off x="521496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2d050"/>
                </a:solidFill>
                <a:latin typeface="Georgia"/>
              </a:rPr>
              <a:t>Stability of FL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Oval 9"/>
          <p:cNvSpPr/>
          <p:nvPr/>
        </p:nvSpPr>
        <p:spPr>
          <a:xfrm>
            <a:off x="7000920" y="2000160"/>
            <a:ext cx="1214280" cy="78588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Date Placeholder 10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9CA-4681-4B6B-BC3B-4D16A04DF05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Slide Number Placeholder 11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2BB5-AE1C-4464-A46F-2474EC140450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Footer Placeholder 16"/>
          <p:cNvSpPr/>
          <p:nvPr/>
        </p:nvSpPr>
        <p:spPr>
          <a:xfrm>
            <a:off x="301680" y="6410160"/>
            <a:ext cx="58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45" name="Content Placeholder 11" descr="CV.jpg"/>
          <p:cNvPicPr/>
          <p:nvPr/>
        </p:nvPicPr>
        <p:blipFill>
          <a:blip r:embed="rId1"/>
          <a:stretch/>
        </p:blipFill>
        <p:spPr>
          <a:xfrm>
            <a:off x="3124080" y="1649520"/>
            <a:ext cx="5639040" cy="3483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2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TextBox 8"/>
          <p:cNvSpPr/>
          <p:nvPr/>
        </p:nvSpPr>
        <p:spPr>
          <a:xfrm>
            <a:off x="5214960" y="5357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2d050"/>
                </a:solidFill>
                <a:latin typeface="Georgia"/>
              </a:rPr>
              <a:t>Stability of CV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Oval 9"/>
          <p:cNvSpPr/>
          <p:nvPr/>
        </p:nvSpPr>
        <p:spPr>
          <a:xfrm>
            <a:off x="7000920" y="1928880"/>
            <a:ext cx="1214280" cy="114300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Date Placeholder 10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21F-F958-453A-A188-C4A2512E978E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Slide Number Placeholder 1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70F3-BF7D-410E-8728-8D337519952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Footer Placeholder 16"/>
          <p:cNvSpPr/>
          <p:nvPr/>
        </p:nvSpPr>
        <p:spPr>
          <a:xfrm>
            <a:off x="301680" y="6410160"/>
            <a:ext cx="577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Content Placeholder 3" descr="SVM.jpg"/>
          <p:cNvPicPr/>
          <p:nvPr/>
        </p:nvPicPr>
        <p:blipFill>
          <a:blip r:embed="rId1"/>
          <a:stretch/>
        </p:blipFill>
        <p:spPr>
          <a:xfrm>
            <a:off x="3124080" y="1219320"/>
            <a:ext cx="5639040" cy="43434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2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TextBox 10"/>
          <p:cNvSpPr/>
          <p:nvPr/>
        </p:nvSpPr>
        <p:spPr>
          <a:xfrm>
            <a:off x="5214960" y="55594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2d050"/>
                </a:solidFill>
                <a:latin typeface="Georgia"/>
              </a:rPr>
              <a:t>Stability of SV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Oval 11"/>
          <p:cNvSpPr/>
          <p:nvPr/>
        </p:nvSpPr>
        <p:spPr>
          <a:xfrm>
            <a:off x="7000920" y="2000160"/>
            <a:ext cx="1214280" cy="71460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Date Placeholder 1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518-9A6F-40C6-B019-DE7EC94A577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Slide Number Placeholder 1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965-8631-42D1-B5A8-ABC92B5AC8B8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Footer Placeholder 15"/>
          <p:cNvSpPr/>
          <p:nvPr/>
        </p:nvSpPr>
        <p:spPr>
          <a:xfrm>
            <a:off x="301680" y="6410160"/>
            <a:ext cx="605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Content Placeholder 3" descr="PCA+SVM.jpg"/>
          <p:cNvPicPr/>
          <p:nvPr/>
        </p:nvPicPr>
        <p:blipFill>
          <a:blip r:embed="rId1"/>
          <a:stretch/>
        </p:blipFill>
        <p:spPr>
          <a:xfrm>
            <a:off x="3124080" y="1278000"/>
            <a:ext cx="5639040" cy="422604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4857840" y="55594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2d050"/>
                </a:solidFill>
                <a:latin typeface="Georgia"/>
              </a:rPr>
              <a:t>Stability of PCA + SV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Oval 11"/>
          <p:cNvSpPr/>
          <p:nvPr/>
        </p:nvSpPr>
        <p:spPr>
          <a:xfrm>
            <a:off x="7000920" y="1643040"/>
            <a:ext cx="1214280" cy="1643040"/>
          </a:xfrm>
          <a:prstGeom prst="ellipse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Date Placeholder 13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9AA-0A9E-4DB9-AE0D-2DA67DEDADB2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Slide Number Placeholder 14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D1D-FC67-4D55-A882-F617A5FFC447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Footer Placeholder 15"/>
          <p:cNvSpPr/>
          <p:nvPr/>
        </p:nvSpPr>
        <p:spPr>
          <a:xfrm>
            <a:off x="301680" y="6410160"/>
            <a:ext cx="555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3124080" y="685800"/>
          <a:ext cx="5662800" cy="5529240"/>
        </p:xfrm>
        <a:graphic>
          <a:graphicData uri="http://schemas.openxmlformats.org/drawingml/2006/table">
            <a:tbl>
              <a:tblPr/>
              <a:tblGrid>
                <a:gridCol w="1882800"/>
                <a:gridCol w="1260720"/>
                <a:gridCol w="1258560"/>
                <a:gridCol w="1260720"/>
              </a:tblGrid>
              <a:tr h="79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ccuracy (%a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Georgia"/>
                        </a:rPr>
                        <a:t>Class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Georgia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Georgia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Georgia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CA+S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D6EB-87D7-45CF-85F9-762F2B3C9234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Slide Number Placeholder 6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8931-24E9-46F5-8026-5424D4A1C145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Footer Placeholder 7"/>
          <p:cNvSpPr/>
          <p:nvPr/>
        </p:nvSpPr>
        <p:spPr>
          <a:xfrm>
            <a:off x="301680" y="6410160"/>
            <a:ext cx="612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9" name="Content Placeholder 9" descr="GUI.JPG"/>
          <p:cNvPicPr/>
          <p:nvPr/>
        </p:nvPicPr>
        <p:blipFill>
          <a:blip r:embed="rId1"/>
          <a:stretch/>
        </p:blipFill>
        <p:spPr>
          <a:xfrm>
            <a:off x="3384720" y="685800"/>
            <a:ext cx="5117760" cy="5410080"/>
          </a:xfrm>
          <a:prstGeom prst="rect">
            <a:avLst/>
          </a:prstGeom>
          <a:ln w="0">
            <a:noFill/>
          </a:ln>
        </p:spPr>
      </p:pic>
      <p:sp>
        <p:nvSpPr>
          <p:cNvPr id="780" name="Date Placeholder 5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402B-3C0E-40CC-8FE2-90DD994BBBB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Slide Number Placeholder 8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160B-E561-41B0-8838-3886B32C60D7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Footer Placeholder 10"/>
          <p:cNvSpPr/>
          <p:nvPr/>
        </p:nvSpPr>
        <p:spPr>
          <a:xfrm>
            <a:off x="301680" y="6410160"/>
            <a:ext cx="619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Simulations &amp; Resul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5" name="Content Placeholder 9" descr="GUI_2.JPG"/>
          <p:cNvPicPr/>
          <p:nvPr/>
        </p:nvPicPr>
        <p:blipFill>
          <a:blip r:embed="rId1"/>
          <a:stretch/>
        </p:blipFill>
        <p:spPr>
          <a:xfrm>
            <a:off x="3387600" y="685800"/>
            <a:ext cx="5112000" cy="5410080"/>
          </a:xfrm>
          <a:prstGeom prst="rect">
            <a:avLst/>
          </a:prstGeom>
          <a:ln w="0">
            <a:noFill/>
          </a:ln>
        </p:spPr>
      </p:pic>
      <p:sp>
        <p:nvSpPr>
          <p:cNvPr id="786" name="Date Placeholder 5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C6E5-F9CB-4DF4-9138-18551CED1F8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Slide Number Placeholder 7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32DC-AC6B-4C05-A6AB-A2BE99E93462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01680" y="6410160"/>
            <a:ext cx="58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ank GOD!! My mind can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cognize female faces easily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ability of different methods depends on number of training sequenc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CA &amp; SVM prove to be stable and reliable global classifiers with acceptable accuracy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ing PCA as dimension reducer and SVM as a classifier can produce better results, if more training sequences can be use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Georgia"/>
              </a:rPr>
              <a:t>Simulations &amp; Result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bc737"/>
                </a:solidFill>
                <a:latin typeface="Georgia"/>
              </a:rPr>
              <a:t>Conclusion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Date Placeholder 10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485-10DB-41FB-A181-5C9A5876AA9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Slide Number Placeholder 11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9D8-6416-4487-B8E5-F838DAE8087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Footer Placeholder 13"/>
          <p:cNvSpPr/>
          <p:nvPr/>
        </p:nvSpPr>
        <p:spPr>
          <a:xfrm>
            <a:off x="301680" y="6410160"/>
            <a:ext cx="58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The project team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7792920" y="168120"/>
            <a:ext cx="1171800" cy="876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EU map.JPG"/>
          <p:cNvPicPr/>
          <p:nvPr/>
        </p:nvPicPr>
        <p:blipFill>
          <a:blip r:embed="rId2"/>
          <a:stretch/>
        </p:blipFill>
        <p:spPr>
          <a:xfrm>
            <a:off x="628560" y="1928880"/>
            <a:ext cx="7886880" cy="4000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male.JPG"/>
          <p:cNvPicPr/>
          <p:nvPr/>
        </p:nvPicPr>
        <p:blipFill>
          <a:blip r:embed="rId3"/>
          <a:stretch/>
        </p:blipFill>
        <p:spPr>
          <a:xfrm>
            <a:off x="1643040" y="3000240"/>
            <a:ext cx="352440" cy="424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9" descr="male.JPG"/>
          <p:cNvPicPr/>
          <p:nvPr/>
        </p:nvPicPr>
        <p:blipFill>
          <a:blip r:embed="rId4"/>
          <a:stretch/>
        </p:blipFill>
        <p:spPr>
          <a:xfrm>
            <a:off x="4929120" y="2357280"/>
            <a:ext cx="297000" cy="357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female.JPG"/>
          <p:cNvPicPr/>
          <p:nvPr/>
        </p:nvPicPr>
        <p:blipFill>
          <a:blip r:embed="rId5"/>
          <a:stretch/>
        </p:blipFill>
        <p:spPr>
          <a:xfrm>
            <a:off x="1428840" y="4786200"/>
            <a:ext cx="284040" cy="495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1" descr="female.JPG"/>
          <p:cNvPicPr/>
          <p:nvPr/>
        </p:nvPicPr>
        <p:blipFill>
          <a:blip r:embed="rId6"/>
          <a:stretch/>
        </p:blipFill>
        <p:spPr>
          <a:xfrm>
            <a:off x="7143840" y="3576600"/>
            <a:ext cx="284040" cy="495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"/>
          <p:cNvPicPr/>
          <p:nvPr/>
        </p:nvPicPr>
        <p:blipFill>
          <a:blip r:embed="rId7"/>
          <a:stretch/>
        </p:blipFill>
        <p:spPr>
          <a:xfrm>
            <a:off x="5000760" y="2901960"/>
            <a:ext cx="357120" cy="169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" descr=""/>
          <p:cNvPicPr/>
          <p:nvPr/>
        </p:nvPicPr>
        <p:blipFill>
          <a:blip r:embed="rId8"/>
          <a:stretch/>
        </p:blipFill>
        <p:spPr>
          <a:xfrm>
            <a:off x="2571840" y="3473280"/>
            <a:ext cx="4214880" cy="4557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9"/>
          <a:stretch/>
        </p:blipFill>
        <p:spPr>
          <a:xfrm>
            <a:off x="1177920" y="3929040"/>
            <a:ext cx="67932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10"/>
          <a:stretch/>
        </p:blipFill>
        <p:spPr>
          <a:xfrm>
            <a:off x="5286240" y="2023920"/>
            <a:ext cx="571680" cy="698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11"/>
          <a:stretch/>
        </p:blipFill>
        <p:spPr>
          <a:xfrm>
            <a:off x="1643040" y="2357280"/>
            <a:ext cx="903240" cy="6796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" descr="K:\DCIM\100CANON\IMG_3516.JPG"/>
          <p:cNvPicPr/>
          <p:nvPr/>
        </p:nvPicPr>
        <p:blipFill>
          <a:blip r:embed="rId12"/>
          <a:stretch/>
        </p:blipFill>
        <p:spPr>
          <a:xfrm>
            <a:off x="7429680" y="2928960"/>
            <a:ext cx="880920" cy="660240"/>
          </a:xfrm>
          <a:prstGeom prst="rect">
            <a:avLst/>
          </a:prstGeom>
          <a:ln w="0">
            <a:noFill/>
          </a:ln>
        </p:spPr>
      </p:pic>
      <p:sp>
        <p:nvSpPr>
          <p:cNvPr id="631" name="Date Placeholder 16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284-0716-419F-9119-848F8D3B1C9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Slide Number Placeholder 17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54D1-35A0-4303-B559-C516EDF349CA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Footer Placeholder 18"/>
          <p:cNvSpPr/>
          <p:nvPr/>
        </p:nvSpPr>
        <p:spPr>
          <a:xfrm>
            <a:off x="304920" y="6410160"/>
            <a:ext cx="576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24884E-006 L 0.37552 -0.26526 E">
                                      <p:cBhvr>
                                        <p:cTn id="6" dur="5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3904E-006 L 0.32465 -0.03122 E">
                                      <p:cBhvr>
                                        <p:cTn id="8" dur="5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03423E-006 L -0.21788 -0.09944 E">
                                      <p:cBhvr>
                                        <p:cTn id="10" dur="5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939E-006 L 1.66667E-006 0.02105 E">
                                      <p:cBhvr>
                                        <p:cTn id="12" dur="5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sts with larger databas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depth stability analysis of different global classifier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ther techniques like Neural Networks may be used to validate different conclusions draw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 find a funding source to attend the next summer school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pic>
        <p:nvPicPr>
          <p:cNvPr id="798" name="Picture 2" descr=""/>
          <p:cNvPicPr/>
          <p:nvPr/>
        </p:nvPicPr>
        <p:blipFill>
          <a:blip r:embed="rId1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imulations &amp; Result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c737"/>
                </a:solidFill>
                <a:latin typeface="Georgia"/>
              </a:rPr>
              <a:t>Future Perspectives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Date Placeholder 8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9959-DF78-41A3-A4EA-43B9A91149B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1" name="Slide Number Placeholder 11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148-13CB-4CBB-B089-89CE630BDBA2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Footer Placeholder 12"/>
          <p:cNvSpPr/>
          <p:nvPr/>
        </p:nvSpPr>
        <p:spPr>
          <a:xfrm>
            <a:off x="301680" y="6410160"/>
            <a:ext cx="598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ank You!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Date Placeholder 7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3A03-05ED-4E17-B958-8AE143BCE733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Slide Number Placeholder 8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2AB-1B52-4CCC-8B51-B78A9ECF48FC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Footer Placeholder 9"/>
          <p:cNvSpPr/>
          <p:nvPr/>
        </p:nvSpPr>
        <p:spPr>
          <a:xfrm>
            <a:off x="304920" y="6410160"/>
            <a:ext cx="576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Layou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blem stat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of the A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system ov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Principal Component Analysis.</a:t>
            </a:r>
            <a:endParaRPr b="0" lang="en-US" sz="22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Fisher Linear Discriminator.</a:t>
            </a:r>
            <a:endParaRPr b="0" lang="en-US" sz="22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Common Vector method.</a:t>
            </a:r>
            <a:endParaRPr b="0" lang="en-US" sz="22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upport  Vector Machines.</a:t>
            </a:r>
            <a:endParaRPr b="0" lang="en-US" sz="22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mulations &amp; Resul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clu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ture Perspectiv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792920" y="168120"/>
            <a:ext cx="1171800" cy="876600"/>
          </a:xfrm>
          <a:prstGeom prst="rect">
            <a:avLst/>
          </a:prstGeom>
          <a:ln w="0">
            <a:noFill/>
          </a:ln>
        </p:spPr>
      </p:pic>
      <p:sp>
        <p:nvSpPr>
          <p:cNvPr id="637" name="Date Placeholder 5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BCB6-6E8B-4EDD-89E9-6AE0099C349A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Slide Number Placeholder 8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8BA-9AB1-4EBC-BE21-51B8D2CFA5F4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Footer Placeholder 9"/>
          <p:cNvSpPr/>
          <p:nvPr/>
        </p:nvSpPr>
        <p:spPr>
          <a:xfrm>
            <a:off x="304920" y="641016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Men and Women: Same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pecies, Different Plane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thematical/Image processing viewpoint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just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Binary classification provided constrained prior information and an elevated difficulty level for probability distribution modeling of the test data.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Problem statemen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tate of the Art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Principal Component Analysi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isher Linear Discriminator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mmon Vector method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7786800" y="1992240"/>
            <a:ext cx="1135080" cy="10796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3"/>
          <a:stretch/>
        </p:blipFill>
        <p:spPr>
          <a:xfrm>
            <a:off x="2928960" y="1992240"/>
            <a:ext cx="1135080" cy="1079640"/>
          </a:xfrm>
          <a:prstGeom prst="rect">
            <a:avLst/>
          </a:prstGeom>
          <a:ln w="0">
            <a:noFill/>
          </a:ln>
        </p:spPr>
      </p:pic>
      <p:sp>
        <p:nvSpPr>
          <p:cNvPr id="646" name="Bevel 11"/>
          <p:cNvSpPr/>
          <p:nvPr/>
        </p:nvSpPr>
        <p:spPr>
          <a:xfrm>
            <a:off x="4714920" y="2063880"/>
            <a:ext cx="2500200" cy="1000080"/>
          </a:xfrm>
          <a:prstGeom prst="bevel">
            <a:avLst>
              <a:gd name="adj" fmla="val 12500"/>
            </a:avLst>
          </a:prstGeom>
          <a:noFill/>
          <a:ln w="11520">
            <a:solidFill>
              <a:srgbClr val="5259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ender Classifi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Right Arrow 13"/>
          <p:cNvSpPr/>
          <p:nvPr/>
        </p:nvSpPr>
        <p:spPr>
          <a:xfrm>
            <a:off x="7215120" y="2492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727ca3"/>
          </a:solidFill>
          <a:ln w="11520">
            <a:solidFill>
              <a:srgbClr val="5259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Right Arrow 14"/>
          <p:cNvSpPr/>
          <p:nvPr/>
        </p:nvSpPr>
        <p:spPr>
          <a:xfrm>
            <a:off x="4189320" y="2492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727ca3"/>
          </a:solidFill>
          <a:ln w="11520">
            <a:solidFill>
              <a:srgbClr val="52597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Date Placeholder 15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A4A2-4286-444F-B099-64235E4D2CD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Slide Number Placeholder 16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59DA-9E8B-413D-B1FE-7AA3A49A9C5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Footer Placeholder 17"/>
          <p:cNvSpPr/>
          <p:nvPr/>
        </p:nvSpPr>
        <p:spPr>
          <a:xfrm>
            <a:off x="301680" y="6410160"/>
            <a:ext cx="584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ocal fea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Skin colour, shape &amp; size of the face, 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	</a:t>
            </a: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amount of hairs, shape &amp; colour of the lips…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Higher difficulty level.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Classification accuracies are mediocre.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lobal fea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Whole facial signature considered as  a complete feature set.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Useful training sequences required.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Higher classification accuracies. 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53"/>
                </a:solidFill>
                <a:latin typeface="Georgia"/>
              </a:rPr>
              <a:t>Subspace methods + Statistical Learners:</a:t>
            </a: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incipal Component Analysis (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CA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isher Linear Discriminator (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FLD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Common Vectors (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CV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Support Vector Machines (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SVM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…………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53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bbc737"/>
                </a:solidFill>
                <a:latin typeface="Georgia"/>
              </a:rPr>
              <a:t>State of the Art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Principal Component Analysi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isher Linear Discriminator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mmon Vector method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656" name="Date Placeholder 10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003-0677-454B-8941-8A1862EAB91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Slide Number Placeholder 11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03E-A773-4DC3-A90B-03F2AE6D908F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Footer Placeholder 12"/>
          <p:cNvSpPr/>
          <p:nvPr/>
        </p:nvSpPr>
        <p:spPr>
          <a:xfrm>
            <a:off x="301680" y="6410160"/>
            <a:ext cx="605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c737"/>
                </a:solidFill>
                <a:latin typeface="Georgia"/>
              </a:rPr>
              <a:t>The system overview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Content Placeholder 17" descr=""/>
          <p:cNvPicPr/>
          <p:nvPr/>
        </p:nvPicPr>
        <p:blipFill>
          <a:blip r:embed="rId1"/>
          <a:stretch/>
        </p:blipFill>
        <p:spPr>
          <a:xfrm>
            <a:off x="3846600" y="676440"/>
            <a:ext cx="5589360" cy="5432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"/>
          <p:cNvPicPr/>
          <p:nvPr/>
        </p:nvPicPr>
        <p:blipFill>
          <a:blip r:embed="rId2"/>
          <a:stretch/>
        </p:blipFill>
        <p:spPr>
          <a:xfrm>
            <a:off x="7143840" y="5000760"/>
            <a:ext cx="1135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19"/>
          <p:cNvGrpSpPr/>
          <p:nvPr/>
        </p:nvGrpSpPr>
        <p:grpSpPr>
          <a:xfrm>
            <a:off x="5643720" y="5429160"/>
            <a:ext cx="1110960" cy="371520"/>
            <a:chOff x="5643720" y="5429160"/>
            <a:chExt cx="1110960" cy="371520"/>
          </a:xfrm>
        </p:grpSpPr>
        <p:sp>
          <p:nvSpPr>
            <p:cNvPr id="664" name="Right Arrow 20"/>
            <p:cNvSpPr/>
            <p:nvPr/>
          </p:nvSpPr>
          <p:spPr>
            <a:xfrm>
              <a:off x="5643720" y="5429160"/>
              <a:ext cx="1110960" cy="371520"/>
            </a:xfrm>
            <a:prstGeom prst="rightArrow">
              <a:avLst>
                <a:gd name="adj1" fmla="val 60000"/>
                <a:gd name="adj2" fmla="val 149516"/>
              </a:avLst>
            </a:prstGeom>
            <a:solidFill>
              <a:srgbClr val="bcb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Right Arrow 4"/>
            <p:cNvSpPr/>
            <p:nvPr/>
          </p:nvSpPr>
          <p:spPr>
            <a:xfrm>
              <a:off x="5643720" y="5503320"/>
              <a:ext cx="77760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66" name="Picture 3" descr=""/>
          <p:cNvPicPr/>
          <p:nvPr/>
        </p:nvPicPr>
        <p:blipFill>
          <a:blip r:embed="rId3"/>
          <a:stretch/>
        </p:blipFill>
        <p:spPr>
          <a:xfrm>
            <a:off x="3000240" y="642960"/>
            <a:ext cx="1135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24"/>
          <p:cNvGrpSpPr/>
          <p:nvPr/>
        </p:nvGrpSpPr>
        <p:grpSpPr>
          <a:xfrm>
            <a:off x="4429080" y="928800"/>
            <a:ext cx="318960" cy="372960"/>
            <a:chOff x="4429080" y="928800"/>
            <a:chExt cx="318960" cy="372960"/>
          </a:xfrm>
        </p:grpSpPr>
        <p:sp>
          <p:nvSpPr>
            <p:cNvPr id="668" name="Right Arrow 25"/>
            <p:cNvSpPr/>
            <p:nvPr/>
          </p:nvSpPr>
          <p:spPr>
            <a:xfrm>
              <a:off x="4429080" y="928800"/>
              <a:ext cx="318960" cy="372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cb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9" name="Right Arrow 4"/>
            <p:cNvSpPr/>
            <p:nvPr/>
          </p:nvSpPr>
          <p:spPr>
            <a:xfrm>
              <a:off x="4429080" y="1003320"/>
              <a:ext cx="2232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70" name="Group 15"/>
          <p:cNvGrpSpPr/>
          <p:nvPr/>
        </p:nvGrpSpPr>
        <p:grpSpPr>
          <a:xfrm>
            <a:off x="5643720" y="3929040"/>
            <a:ext cx="1055520" cy="372960"/>
            <a:chOff x="5643720" y="3929040"/>
            <a:chExt cx="1055520" cy="372960"/>
          </a:xfrm>
        </p:grpSpPr>
        <p:sp>
          <p:nvSpPr>
            <p:cNvPr id="671" name="Right Arrow 16"/>
            <p:cNvSpPr/>
            <p:nvPr/>
          </p:nvSpPr>
          <p:spPr>
            <a:xfrm rot="10800000">
              <a:off x="5643720" y="3929040"/>
              <a:ext cx="1055520" cy="372960"/>
            </a:xfrm>
            <a:prstGeom prst="rightArrow">
              <a:avLst>
                <a:gd name="adj1" fmla="val 60000"/>
                <a:gd name="adj2" fmla="val 49907"/>
              </a:avLst>
            </a:prstGeom>
            <a:solidFill>
              <a:srgbClr val="bcb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2" name="Right Arrow 4"/>
            <p:cNvSpPr/>
            <p:nvPr/>
          </p:nvSpPr>
          <p:spPr>
            <a:xfrm>
              <a:off x="5755320" y="4003560"/>
              <a:ext cx="943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73" name="Oval 29"/>
          <p:cNvSpPr/>
          <p:nvPr/>
        </p:nvSpPr>
        <p:spPr>
          <a:xfrm>
            <a:off x="3786120" y="3643200"/>
            <a:ext cx="1643040" cy="10000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L-Shape 32"/>
          <p:cNvSpPr/>
          <p:nvPr/>
        </p:nvSpPr>
        <p:spPr>
          <a:xfrm rot="16200000">
            <a:off x="4840560" y="-554040"/>
            <a:ext cx="2606400" cy="4857840"/>
          </a:xfrm>
          <a:prstGeom prst="pi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Date Placeholder 2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C6B3-9B3A-4C7A-85D0-FE2BAF675F7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Slide Number Placeholder 30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3219-ED97-4ADF-A55C-46EEDD66EB59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Footer Placeholder 31"/>
          <p:cNvSpPr/>
          <p:nvPr/>
        </p:nvSpPr>
        <p:spPr>
          <a:xfrm>
            <a:off x="301680" y="6410160"/>
            <a:ext cx="591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Karhunen-Loeve Transform (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KL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ps vectors from an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-d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ace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 a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n-d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pace ;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n &lt;&lt; M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mputes eigenvectors of th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covaria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matrices for normal distribution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ther distances can also be use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Optimal  linear dimensionality reducer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Principal Component Analysi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mmon Vector method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3571920" y="2768760"/>
            <a:ext cx="4714920" cy="1946160"/>
            <a:chOff x="3571920" y="2768760"/>
            <a:chExt cx="4714920" cy="1946160"/>
          </a:xfrm>
        </p:grpSpPr>
        <p:pic>
          <p:nvPicPr>
            <p:cNvPr id="682" name="Picture 3" descr=""/>
            <p:cNvPicPr/>
            <p:nvPr/>
          </p:nvPicPr>
          <p:blipFill>
            <a:blip r:embed="rId1"/>
            <a:stretch/>
          </p:blipFill>
          <p:spPr>
            <a:xfrm>
              <a:off x="3571920" y="2768760"/>
              <a:ext cx="1500120" cy="7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" descr=""/>
            <p:cNvPicPr/>
            <p:nvPr/>
          </p:nvPicPr>
          <p:blipFill>
            <a:blip r:embed="rId2"/>
            <a:stretch/>
          </p:blipFill>
          <p:spPr>
            <a:xfrm>
              <a:off x="5634000" y="2952360"/>
              <a:ext cx="2652840" cy="40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5" descr=""/>
            <p:cNvPicPr/>
            <p:nvPr/>
          </p:nvPicPr>
          <p:blipFill>
            <a:blip r:embed="rId3"/>
            <a:stretch/>
          </p:blipFill>
          <p:spPr>
            <a:xfrm>
              <a:off x="4643280" y="3733920"/>
              <a:ext cx="2286000" cy="3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6" descr=""/>
            <p:cNvPicPr/>
            <p:nvPr/>
          </p:nvPicPr>
          <p:blipFill>
            <a:blip r:embed="rId4"/>
            <a:stretch/>
          </p:blipFill>
          <p:spPr>
            <a:xfrm>
              <a:off x="4643280" y="4305600"/>
              <a:ext cx="2286000" cy="40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6" name="Picture 2" descr=""/>
          <p:cNvPicPr/>
          <p:nvPr/>
        </p:nvPicPr>
        <p:blipFill>
          <a:blip r:embed="rId5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687" name="Date Placeholder 14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F321-78EC-443A-803A-21B14B84122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Slide Number Placeholder 15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4917-52B0-4BE8-A122-2DE5EF4CA0EE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Footer Placeholder 16"/>
          <p:cNvSpPr/>
          <p:nvPr/>
        </p:nvSpPr>
        <p:spPr>
          <a:xfrm>
            <a:off x="301680" y="6410160"/>
            <a:ext cx="627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pervised metho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bel information considere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er-class &amp; Intra class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scatter matrice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; proportional to covariance matric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ralized eigenvalue problem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suitable eigenvalue &amp; eigenvector for the solutio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rgest eigenvalue is chose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Fisher Linear Discriminator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mmon Vector method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93" name="Group 14"/>
          <p:cNvGrpSpPr/>
          <p:nvPr/>
        </p:nvGrpSpPr>
        <p:grpSpPr>
          <a:xfrm>
            <a:off x="3429000" y="2479680"/>
            <a:ext cx="5072040" cy="1592280"/>
            <a:chOff x="3429000" y="2479680"/>
            <a:chExt cx="5072040" cy="1592280"/>
          </a:xfrm>
        </p:grpSpPr>
        <p:pic>
          <p:nvPicPr>
            <p:cNvPr id="694" name="Picture 2" descr=""/>
            <p:cNvPicPr/>
            <p:nvPr/>
          </p:nvPicPr>
          <p:blipFill>
            <a:blip r:embed="rId1"/>
            <a:stretch/>
          </p:blipFill>
          <p:spPr>
            <a:xfrm>
              <a:off x="3429000" y="2503080"/>
              <a:ext cx="194112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3" descr=""/>
            <p:cNvPicPr/>
            <p:nvPr/>
          </p:nvPicPr>
          <p:blipFill>
            <a:blip r:embed="rId2"/>
            <a:stretch/>
          </p:blipFill>
          <p:spPr>
            <a:xfrm>
              <a:off x="5572080" y="2479680"/>
              <a:ext cx="2928960" cy="42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7" descr=""/>
            <p:cNvPicPr/>
            <p:nvPr/>
          </p:nvPicPr>
          <p:blipFill>
            <a:blip r:embed="rId3"/>
            <a:stretch/>
          </p:blipFill>
          <p:spPr>
            <a:xfrm>
              <a:off x="5572080" y="2909520"/>
              <a:ext cx="292896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8" descr=""/>
            <p:cNvPicPr/>
            <p:nvPr/>
          </p:nvPicPr>
          <p:blipFill>
            <a:blip r:embed="rId4"/>
            <a:stretch/>
          </p:blipFill>
          <p:spPr>
            <a:xfrm>
              <a:off x="4643280" y="3551760"/>
              <a:ext cx="2143080" cy="52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8" name="Picture 2" descr=""/>
          <p:cNvPicPr/>
          <p:nvPr/>
        </p:nvPicPr>
        <p:blipFill>
          <a:blip r:embed="rId5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sp>
        <p:nvSpPr>
          <p:cNvPr id="699" name="Date Placeholder 11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9277-1F51-46E4-919F-311CCAA9B8F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Slide Number Placeholder 13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70A-0BB3-4FB4-AE89-796F8AAFCEA6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Footer Placeholder 16"/>
          <p:cNvSpPr/>
          <p:nvPr/>
        </p:nvSpPr>
        <p:spPr>
          <a:xfrm>
            <a:off x="301680" y="6410160"/>
            <a:ext cx="612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3124080" y="685800"/>
            <a:ext cx="5639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eature space is divided in two orthogonal subspac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ach sample in training sequence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ifference subspace is equal to the rank of scatter matrix for each clas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inimizes the criterion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ich takes the form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solidFill>
            <a:srgbClr val="cfd1dc"/>
          </a:solidFill>
          <a:ln w="9360">
            <a:solidFill>
              <a:srgbClr val="727ca3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Gender classifier based on Facial information </a:t>
            </a:r>
            <a:endParaRPr b="0" lang="en-US" sz="18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oblem statemen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tate of the Art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System overview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Principal Component Analysi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Georgia"/>
              </a:rPr>
              <a:t>Fisher Linear Discriminator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c737"/>
                </a:solidFill>
                <a:latin typeface="Georgia"/>
              </a:rPr>
              <a:t>Common Vector metho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upport  Vector Machin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Simulations &amp; Result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Conclusion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Georgia"/>
              </a:rPr>
              <a:t>Future Perspectives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3571920" y="2071800"/>
            <a:ext cx="5078520" cy="2854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2"/>
          <a:stretch/>
        </p:blipFill>
        <p:spPr>
          <a:xfrm>
            <a:off x="4286160" y="4643280"/>
            <a:ext cx="2986200" cy="7146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3"/>
          <a:stretch/>
        </p:blipFill>
        <p:spPr>
          <a:xfrm>
            <a:off x="3857760" y="5734080"/>
            <a:ext cx="4000320" cy="623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"/>
          <p:cNvPicPr/>
          <p:nvPr/>
        </p:nvPicPr>
        <p:blipFill>
          <a:blip r:embed="rId4"/>
          <a:stretch/>
        </p:blipFill>
        <p:spPr>
          <a:xfrm>
            <a:off x="7792920" y="550800"/>
            <a:ext cx="1171800" cy="876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"/>
          <p:cNvPicPr/>
          <p:nvPr/>
        </p:nvPicPr>
        <p:blipFill>
          <a:blip r:embed="rId5"/>
          <a:stretch/>
        </p:blipFill>
        <p:spPr>
          <a:xfrm>
            <a:off x="4714920" y="3571920"/>
            <a:ext cx="2214360" cy="450720"/>
          </a:xfrm>
          <a:prstGeom prst="rect">
            <a:avLst/>
          </a:prstGeom>
          <a:ln w="0">
            <a:noFill/>
          </a:ln>
        </p:spPr>
      </p:pic>
      <p:sp>
        <p:nvSpPr>
          <p:cNvPr id="710" name="Date Placeholder 12"/>
          <p:cNvSpPr/>
          <p:nvPr/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2FE-C909-43DC-9A70-D2AEEE1D03B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lide Number Placeholder 13"/>
          <p:cNvSpPr/>
          <p:nvPr/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7291-8026-4AAC-B74B-8382DCC0EEC3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Footer Placeholder 14"/>
          <p:cNvSpPr/>
          <p:nvPr/>
        </p:nvSpPr>
        <p:spPr>
          <a:xfrm>
            <a:off x="301680" y="6410160"/>
            <a:ext cx="619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16th Summer School on Image Processing, July 7th-16th 2008, Vienna, Austria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07:32:17Z</dcterms:created>
  <dc:creator>Imtnan QAZI</dc:creator>
  <dc:description/>
  <dc:language>en-US</dc:language>
  <cp:lastModifiedBy>Imtnan QAZI</cp:lastModifiedBy>
  <dcterms:modified xsi:type="dcterms:W3CDTF">2008-07-15T09:41:42Z</dcterms:modified>
  <cp:revision>215</cp:revision>
  <dc:subject/>
  <dc:title>Gender Classification based on Facial information </dc:title>
</cp:coreProperties>
</file>